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38B4-BCDB-491A-82E2-4343B7208C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7A5B-A868-4F2A-A68F-4498DF1854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B6D9-E307-4297-AB47-7716A878BB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0472-6FEB-4AE1-A5F8-A8D5B51E28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C8ED-A80C-444B-A5E8-76F68CC341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C575-5BBE-4224-A7F3-B1A49E5990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0EC4-9E44-495D-B446-D9A2E728A6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03FF-90C9-4643-A606-2997E6B417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2001-E950-4962-998E-6D0DB34C4E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047A-F005-488A-93C4-371E67CB0D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C5F-EE8C-474E-A6FC-9297EBEC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4E6-B5F6-4354-902E-7CE0DCCC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BC6-6843-4DE2-9BF9-1548A89B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BDD-A517-4640-A64B-577AD81F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179-300D-4EE3-A789-A270ADBC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756-2D7D-4BD1-8A50-EE4E9316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C69-D97B-4938-8DA8-5C0FF43E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E9F-99C4-49F9-B4F7-E72D3D68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A89-DE80-4548-A2A4-B665A2D1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46F-F888-4AEB-90C3-155BFBFC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99D-28F8-4501-9A51-B16EB20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C76-3EF9-4F35-9A02-7D8BB869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DCF8-209D-4A95-88E9-9B857F02FC6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lassonde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jlassond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13564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Groupe d’entraide aux personnes francophones LGBTQI nouvellement arrivées au Canada de FrancoQu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447920" y="45720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Me Julie Lassonde, animatrice bénévole du gro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jlassonde.com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904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7 octobre 2012: Réflexion stratégique de FrancoQu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us-groupe sur les minorités dans la minorité et sur la justi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 réunions en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valuation du groupe effectuée en août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nctionnement du grou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franç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fid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 ou 6 réunions en personne par 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mboursement de tokens, nourriture et boissons quand c’es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animatrice bénév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ou une membre bénévole du conseil d’administration de FrancoQu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personnes participantes s’entraident entre les ré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i participe au grou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tre 4 et 9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sonnes LGBTQI et alli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 d’obligation de s’identifier sur le plan de l’orientation sex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emmes et ho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jorité de personnes africaines nouvellement arrivées au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émoign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groupe m’a aidée à m’exprimer, à être plus à l’aise. Ça a soulevé un poids que je portais. Ça m’a donné un soutien moral et psychologique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Ça m’a donné du courage. J’ai vécu beaucoup d’émotions. J’en ai appris sur différents pays. Je me sens maintenant à l’aise de parler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J’ai senti une différence dans mon bien-être avant d’avoir participé au groupe et après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émoign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Nous sommes là pour les autres et pour soi, peu importe si les nouvelles sont bonnes ou mauvaises sur le plan de l’immigration et du statut de personne réfugiée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groupe accepte toutes les couleurs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Je suis en situation de stress constant et ça me soulage à chaque fois que je viens à une réunion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m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5235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a un impact limité sur les démarches juridiques de ses mem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ttre de soutien de Francoqu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émoignage de me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age d’expériences et apprentissage à travers les au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ne peut fournir de conseils jurid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ne peut donner d’aide financ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ven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ugmenter le nombre de personnes participantes sans perdre la qualité de l’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rganiser d’autres so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vrir un café LGBTQ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echerche de financement de FQ auprès du ministère des affaires civiques et de l’immigration de l’Ontario en 2013. Y aura-t-il des sui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rc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ulie Lass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ocate, chercheure &amp; traduc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tréal 514-839-8727 / Toronto 416-837-83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ulie@jlasson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jlasson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ancoQu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ww.francoqueer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7:22:55Z</dcterms:created>
  <dc:creator>Julie Lassonde</dc:creator>
  <dc:description/>
  <dc:language>en-US</dc:language>
  <cp:lastModifiedBy>ltshiswaka</cp:lastModifiedBy>
  <cp:lastPrinted>2013-10-03T23:44:44Z</cp:lastPrinted>
  <dcterms:modified xsi:type="dcterms:W3CDTF">2013-11-12T18:55:13Z</dcterms:modified>
  <cp:revision>530</cp:revision>
  <dc:subject/>
  <dc:title>Diapositive 1</dc:title>
</cp:coreProperties>
</file>